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D312BB7-1196-4EFB-850B-25FA3ACE07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URL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な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2,3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/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22A-915C-44CF-831F-31F12A50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A6B-EE74-4B2E-9C7F-29256906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D6A-4ACA-4355-A809-5A2AD37B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9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AB5-E656-4233-BCE9-6DF178A3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CE4-DF04-40A4-8EB2-2A173EFB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9BD-91E6-48E4-8FEA-874630C2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601-2889-4389-8724-3B339C3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38F-5B91-4D2F-AA48-27A4BB9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9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251-3540-434D-B8ED-3B9DA7B2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ACE-80EA-40B1-A0D9-426303AC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49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F2E-05D6-456A-B5CA-B7B7C32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49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49C-8CA7-4594-ACF0-BB0A4FE1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4A9A-0D3D-4CF9-92C4-BE9C401C3C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4978440" cy="7398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mailto:kaminaga@sm.sony.co.jp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uspend2.net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10480" cy="1871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roki Kamin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y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kaminaga@sm.sony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translated by ikoma@slab.tnr.sharp.co.j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AFE-693C-4E3E-825F-73734A3940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ion on Linu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su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d in 2.6 vanilla ker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cumentation/power/swsusp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Pavel Mach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suspe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www.suspend2.net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: Nigel Cunningh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880-5408-4680-97F5-A6D8BD030D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bernate on Linux(comparison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19120" y="2109960"/>
          <a:ext cx="8229600" cy="3555720"/>
        </p:xfrm>
        <a:graphic>
          <a:graphicData uri="http://schemas.openxmlformats.org/drawingml/2006/table">
            <a:tbl>
              <a:tblPr/>
              <a:tblGrid>
                <a:gridCol w="2746440"/>
                <a:gridCol w="2739960"/>
                <a:gridCol w="274320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ite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, ia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386, ppc, x86_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ntiguous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s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swapfi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pend-to-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land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サポー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3773520" y="148428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su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2960" y="1484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17840" y="5948280"/>
            <a:ext cx="47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spend2.net/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3F8-5E62-4B1B-81BC-CFD3E5FCB9D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viron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AP Starter Kit (OSK 5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-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osk.jpg"/>
          <p:cNvPicPr/>
          <p:nvPr/>
        </p:nvPicPr>
        <p:blipFill>
          <a:blip r:embed="rId2"/>
          <a:stretch/>
        </p:blipFill>
        <p:spPr>
          <a:xfrm>
            <a:off x="5651640" y="333360"/>
            <a:ext cx="3095640" cy="232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3640" y="2792520"/>
            <a:ext cx="396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9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P core operating at 192 Mhz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V320AIC23 Stereo Cod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DDR SD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Mbyte Flash 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S-232 Serial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MBPS Etherne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Host 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ct flash conn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oard IEEE 1149.1 J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F55-DF54-41F5-A4EC-52C53B8FA2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It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ing hibernation on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with swsusp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ing to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ion onto 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ed shut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  <a:ea typeface=""/>
              </a:rPr>
              <a:t>Hibernation on Boot 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DEFERED_RESU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B28-AC7B-4F08-8EC2-C1E9FBB7BF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ing Suspen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on of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of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ing Suspend2 onto 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ing U-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bernation on Boot loade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754-AA5A-427A-8D96-A3C6128B83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D36-3964-41F2-A2F7-EB05A4E199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 ARM port patch to Suspend2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; Accepted favarab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 ML adviced me on questions/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9A8-B76F-487F-8AB3-973BE11A14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59280" y="3213000"/>
            <a:ext cx="297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A25-EA18-4F96-B6B8-B6B5E089ABD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19700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900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8136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57336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graturation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shinTigers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on the league championshi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8D3-2117-4BB2-AF0D-5983E8B493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07520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until the application reaches to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fer of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l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co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C Processing among applications for the whole system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03600" y="207504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69800" y="2160720"/>
            <a:ext cx="11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3278160"/>
            <a:ext cx="64764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6200" y="3278160"/>
            <a:ext cx="6476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3840" y="3278160"/>
            <a:ext cx="12240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3278160"/>
            <a:ext cx="3457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257796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t lo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ker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9964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728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440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36760" y="3494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[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93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784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21258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38880" y="2205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time of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6040" y="1413000"/>
            <a:ext cx="6286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 to shorten start up time of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D0D-9959-4667-B42F-35C340C8E7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al Approach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ynamic link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ime for global 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constructors in the same place(Localization eff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in place (X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Paging of Data Section(From Mizuyama’s presentation in the previous Jambor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818-14B4-48C8-BEF3-8E6A6D4238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Approach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return from hiber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59F-2402-4C3A-839C-AD56BF3133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/Resume Sequence(1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00" y="378792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371628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0560" y="371628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6560" y="371628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37162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lnTo>
                  <a:pt x="7584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72000" y="4726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1773360"/>
            <a:ext cx="1908000" cy="100800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0" y="0"/>
                </a:lnTo>
                <a:lnTo>
                  <a:pt x="21600" y="10800"/>
                </a:lnTo>
                <a:lnTo>
                  <a:pt x="177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23600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517-41C3-4341-AE9C-2D1AB5FDFA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/Resume Sequenc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912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73360"/>
            <a:ext cx="1835280" cy="100800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773360"/>
            <a:ext cx="1079640" cy="1008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1773360"/>
            <a:ext cx="1584360" cy="1008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276640"/>
            <a:ext cx="0" cy="30970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05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1773360"/>
            <a:ext cx="1513080" cy="10080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1" y="0"/>
                </a:lnTo>
                <a:lnTo>
                  <a:pt x="21600" y="10800"/>
                </a:lnTo>
                <a:lnTo>
                  <a:pt x="17611" y="21600"/>
                </a:lnTo>
                <a:lnTo>
                  <a:pt x="0" y="21600"/>
                </a:lnTo>
                <a:lnTo>
                  <a:pt x="3989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72000" y="278136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1773360"/>
            <a:ext cx="936360" cy="1008000"/>
          </a:xfrm>
          <a:custGeom>
            <a:avLst/>
            <a:gdLst>
              <a:gd name="textAreaLeft" fmla="*/ 0 w 936360"/>
              <a:gd name="textAreaRight" fmla="*/ 936720 w 936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lnTo>
                  <a:pt x="7347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177336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19" y="0"/>
                </a:lnTo>
                <a:lnTo>
                  <a:pt x="21600" y="10800"/>
                </a:lnTo>
                <a:lnTo>
                  <a:pt x="13619" y="21600"/>
                </a:lnTo>
                <a:lnTo>
                  <a:pt x="0" y="21600"/>
                </a:lnTo>
                <a:lnTo>
                  <a:pt x="7981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56720" y="1773360"/>
            <a:ext cx="1116000" cy="1008000"/>
          </a:xfrm>
          <a:custGeom>
            <a:avLst/>
            <a:gdLst>
              <a:gd name="textAreaLeft" fmla="*/ 0 w 1116000"/>
              <a:gd name="textAreaRight" fmla="*/ 1116360 w 1116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24" y="0"/>
                </a:lnTo>
                <a:lnTo>
                  <a:pt x="21600" y="10800"/>
                </a:lnTo>
                <a:lnTo>
                  <a:pt x="15424" y="21600"/>
                </a:lnTo>
                <a:lnTo>
                  <a:pt x="0" y="21600"/>
                </a:lnTo>
                <a:lnTo>
                  <a:pt x="617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1773360"/>
            <a:ext cx="935280" cy="1008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72" y="0"/>
                </a:lnTo>
                <a:lnTo>
                  <a:pt x="21600" y="10800"/>
                </a:lnTo>
                <a:lnTo>
                  <a:pt x="15072" y="21600"/>
                </a:lnTo>
                <a:lnTo>
                  <a:pt x="0" y="21600"/>
                </a:lnTo>
                <a:lnTo>
                  <a:pt x="652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980-0C17-408F-90E5-A4996027A1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spend/Resume Sequence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1773360"/>
            <a:ext cx="1511280" cy="1008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3" y="0"/>
                </a:lnTo>
                <a:lnTo>
                  <a:pt x="21600" y="10800"/>
                </a:lnTo>
                <a:lnTo>
                  <a:pt x="177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6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773360"/>
            <a:ext cx="647640" cy="1008000"/>
          </a:xfrm>
          <a:custGeom>
            <a:avLst/>
            <a:gdLst>
              <a:gd name="textAreaLeft" fmla="*/ 0 w 647640"/>
              <a:gd name="textAreaRight" fmla="*/ 648000 w 647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25" y="0"/>
                </a:lnTo>
                <a:lnTo>
                  <a:pt x="21600" y="10800"/>
                </a:lnTo>
                <a:lnTo>
                  <a:pt x="14525" y="21600"/>
                </a:lnTo>
                <a:lnTo>
                  <a:pt x="0" y="21600"/>
                </a:lnTo>
                <a:lnTo>
                  <a:pt x="7075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3" y="0"/>
                </a:lnTo>
                <a:lnTo>
                  <a:pt x="21600" y="10800"/>
                </a:lnTo>
                <a:lnTo>
                  <a:pt x="16863" y="21600"/>
                </a:lnTo>
                <a:lnTo>
                  <a:pt x="0" y="21600"/>
                </a:lnTo>
                <a:lnTo>
                  <a:pt x="4737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4221000"/>
            <a:ext cx="0" cy="1152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2520" y="5302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1773360"/>
            <a:ext cx="936720" cy="1008000"/>
          </a:xfrm>
          <a:custGeom>
            <a:avLst/>
            <a:gdLst>
              <a:gd name="textAreaLeft" fmla="*/ 0 w 936720"/>
              <a:gd name="textAreaRight" fmla="*/ 937080 w 936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22" y="0"/>
                </a:lnTo>
                <a:lnTo>
                  <a:pt x="21600" y="10800"/>
                </a:lnTo>
                <a:lnTo>
                  <a:pt x="140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5440" y="1773360"/>
            <a:ext cx="1008360" cy="1008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70" y="0"/>
                </a:lnTo>
                <a:lnTo>
                  <a:pt x="21600" y="10800"/>
                </a:lnTo>
                <a:lnTo>
                  <a:pt x="16770" y="21600"/>
                </a:lnTo>
                <a:lnTo>
                  <a:pt x="0" y="21600"/>
                </a:lnTo>
                <a:lnTo>
                  <a:pt x="483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8560" y="5230800"/>
            <a:ext cx="720720" cy="5763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4797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24120" y="5302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7800" y="1773360"/>
            <a:ext cx="792000" cy="1008000"/>
          </a:xfrm>
          <a:custGeom>
            <a:avLst/>
            <a:gdLst>
              <a:gd name="textAreaLeft" fmla="*/ 0 w 792000"/>
              <a:gd name="textAreaRight" fmla="*/ 792360 w 792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0" y="21600"/>
                </a:lnTo>
                <a:lnTo>
                  <a:pt x="5368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1773360"/>
            <a:ext cx="865440" cy="1008000"/>
          </a:xfrm>
          <a:custGeom>
            <a:avLst/>
            <a:gdLst>
              <a:gd name="textAreaLeft" fmla="*/ 0 w 865440"/>
              <a:gd name="textAreaRight" fmla="*/ 865800 w 865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25" y="0"/>
                </a:lnTo>
                <a:lnTo>
                  <a:pt x="21600" y="10800"/>
                </a:lnTo>
                <a:lnTo>
                  <a:pt x="16725" y="21600"/>
                </a:lnTo>
                <a:lnTo>
                  <a:pt x="0" y="21600"/>
                </a:lnTo>
                <a:lnTo>
                  <a:pt x="4875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00" y="3789360"/>
            <a:ext cx="14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718080"/>
            <a:ext cx="792360" cy="1008000"/>
          </a:xfrm>
          <a:custGeom>
            <a:avLst/>
            <a:gdLst>
              <a:gd name="textAreaLeft" fmla="*/ 0 w 792360"/>
              <a:gd name="textAreaRight" fmla="*/ 792720 w 7923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02" y="0"/>
                </a:lnTo>
                <a:lnTo>
                  <a:pt x="21600" y="10800"/>
                </a:lnTo>
                <a:lnTo>
                  <a:pt x="13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3718080"/>
            <a:ext cx="863640" cy="1008000"/>
          </a:xfrm>
          <a:custGeom>
            <a:avLst/>
            <a:gdLst>
              <a:gd name="textAreaLeft" fmla="*/ 0 w 863640"/>
              <a:gd name="textAreaRight" fmla="*/ 864000 w 863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0" y="21600"/>
                </a:lnTo>
                <a:lnTo>
                  <a:pt x="4284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0560" y="3718080"/>
            <a:ext cx="506160" cy="1008000"/>
          </a:xfrm>
          <a:custGeom>
            <a:avLst/>
            <a:gdLst>
              <a:gd name="textAreaLeft" fmla="*/ 0 w 506160"/>
              <a:gd name="textAreaRight" fmla="*/ 506520 w 5061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16" y="0"/>
                </a:lnTo>
                <a:lnTo>
                  <a:pt x="21600" y="10800"/>
                </a:lnTo>
                <a:lnTo>
                  <a:pt x="14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718080"/>
            <a:ext cx="865080" cy="1008000"/>
          </a:xfrm>
          <a:custGeom>
            <a:avLst/>
            <a:gdLst>
              <a:gd name="textAreaLeft" fmla="*/ 0 w 865080"/>
              <a:gd name="textAreaRight" fmla="*/ 865440 w 86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87" y="0"/>
                </a:lnTo>
                <a:lnTo>
                  <a:pt x="21600" y="10800"/>
                </a:lnTo>
                <a:lnTo>
                  <a:pt x="16487" y="21600"/>
                </a:lnTo>
                <a:lnTo>
                  <a:pt x="0" y="21600"/>
                </a:lnTo>
                <a:lnTo>
                  <a:pt x="5113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6920" y="3716280"/>
            <a:ext cx="720720" cy="1008000"/>
          </a:xfrm>
          <a:custGeom>
            <a:avLst/>
            <a:gdLst>
              <a:gd name="textAreaLeft" fmla="*/ 0 w 720720"/>
              <a:gd name="textAreaRight" fmla="*/ 721080 w 72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4" y="0"/>
                </a:lnTo>
                <a:lnTo>
                  <a:pt x="21600" y="10800"/>
                </a:lnTo>
                <a:lnTo>
                  <a:pt x="15604" y="21600"/>
                </a:lnTo>
                <a:lnTo>
                  <a:pt x="0" y="21600"/>
                </a:lnTo>
                <a:lnTo>
                  <a:pt x="5996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278080"/>
            <a:ext cx="0" cy="1440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227640" y="278100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560-995E-4B2B-B3F3-0CCA43BE0B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of Three Approach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(Boot loader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latively faster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licated processing required when data integrity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ne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process to ensure the data integrity after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lower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 +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st resume from hib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process to ensure the data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00C-4DA8-4315-9122-EB63E8F247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ide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processing until the un-hibernate on kernel side, using helper function of Boot 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_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up the specified application with high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ystem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art always with the sam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ash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ed shut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panTechnicalJamboree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481-3A67-403B-A0D0-04C1EDE153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/Sept/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22:14:41Z</dcterms:created>
  <dc:creator>Masato Abe</dc:creator>
  <dc:description/>
  <dc:language>en-US</dc:language>
  <cp:lastModifiedBy>Takao Ikoma</cp:lastModifiedBy>
  <dcterms:modified xsi:type="dcterms:W3CDTF">2006-02-17T06:51:08Z</dcterms:modified>
  <cp:revision>2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3331358</vt:r8>
  </property>
  <property fmtid="{D5CDD505-2E9C-101B-9397-08002B2CF9AE}" pid="3" name="_AuthorEmail">
    <vt:lpwstr>Satoru.Ueda@jp.sony.com</vt:lpwstr>
  </property>
  <property fmtid="{D5CDD505-2E9C-101B-9397-08002B2CF9AE}" pid="4" name="_AuthorEmailDisplayName">
    <vt:lpwstr>Satoru Ueda</vt:lpwstr>
  </property>
  <property fmtid="{D5CDD505-2E9C-101B-9397-08002B2CF9AE}" pid="5" name="_EmailSubject">
    <vt:lpwstr>Tokyo TechnoJam</vt:lpwstr>
  </property>
  <property fmtid="{D5CDD505-2E9C-101B-9397-08002B2CF9AE}" pid="6" name="_ReviewingToolsShownOnce">
    <vt:lpwstr/>
  </property>
</Properties>
</file>